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F4C-9E89-4A8F-88BE-01B5801E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B8B-E6EA-4210-935E-7C1C6B26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8B7D-B754-4156-8C0E-DC71E3E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1AC64-5BFC-4565-AFE6-97A07C38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84D24-1583-4D97-905A-BDA26DD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DFAA3-446E-4C81-BD35-A96C489A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7524E-6B50-4F62-A800-48097DF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0A35D-91A8-4DDF-BECA-92BD8AC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24D6D-C568-40CB-A466-3A9CD721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5362B-DC86-4060-A170-7B19E98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45B5-58CA-49A2-AE3D-BEB07575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EC45E-FBF8-435B-BBEB-F5101867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20D-3B20-47C7-8E82-D2AC4447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CD60D-E070-4A74-B489-E0F89C4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90371-6876-4B5E-801C-31C4F3F3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ED931-646B-427F-B0DF-CAABF0B8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0B8D9-C4F8-4A2F-92F9-77FA7A1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0478A-006F-4FA3-958B-612D056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94CDF-1542-4846-8F35-1C168A8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3F5D2-83CF-4A40-883B-757BF45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929CE-51F8-4BB2-B7F3-2587D506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8F5A7-F52A-4558-ACD5-B458A86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BB42A-E1E3-4AF6-AD7B-B7CE17C9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1B5-CE84-43C2-8032-A56F22B8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4F0A1-A6E8-4AAD-8699-FEB1A6B9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13E196-E61C-4F0C-B5C9-7C187019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E87006-0433-49C5-B42D-89938E2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3AE7F0-87D5-481E-8A7E-698386A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39DCC2-C446-4DBE-A160-430AAB54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6BBFF2-5AEA-4309-A943-E37896D7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6EFCDD-B473-4581-AF51-5B4BE852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4D07C7-5C6A-4846-AAB0-B0B9A68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F7DF17-5F81-4C17-A41F-7549D94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87B620-755E-49A4-BCAB-DC47813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FC5-9F1D-419B-9921-BB9A6A36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B0B15-E68F-4718-B966-E302C6D9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284623-24AC-45A7-B81F-988482A5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EC72CB-0483-4C56-8666-3D837118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A8A1D-DB3E-433E-B2B8-28D5D0AD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69EEE-A272-493C-BE8D-5B593FC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3F270-F5BD-4376-8AD4-1EDFAEE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8B3F8-B5E2-43BA-9D3A-190C339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2F9FD-F348-48D7-AF17-F486BDD8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557D1-3BF3-49C1-8311-E1FEA7E8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02DD1-D7AA-42C9-95C9-65A5F474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9507-62B2-4C50-B411-77B4674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F611F-5165-4B75-84A1-83439C8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2D38-9946-48E5-8476-D655138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44430-69BD-422E-8E68-B65AC4FA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02A93-30FF-45DC-BCB7-44F94A8C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FA907-AD36-42D2-BE63-6BF01781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1EADD-840D-43F5-8505-872C3DC3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CA5D3-DFC2-479F-A6D9-78CCC5B0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2C773-5FB7-4A8B-AFD2-4439451D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2A0A4-04B5-4B3F-A1BE-FEA6F2C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12115-3BC7-4F35-B523-349058B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5F4C-5C51-432F-B83E-0E3B7065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79FF9-E608-41CA-8C1B-22313CFD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633C3-82E6-4159-9786-CA6C575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DF1E3-9F29-4568-BA38-1699C61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5F136-A8F4-4A18-A4D2-3660A23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6AAE7-E801-4A39-A68C-A930280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98E61-42C2-4B89-A576-19750B07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49D14-F844-41AE-A3A6-2B530024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20884-8995-4790-997B-C2EF9915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F00B9-5579-48A1-B647-B82A2056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00AA4-4B4C-4FBF-B147-D3D8BC79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D536-B98E-418F-971F-CCE8391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109AF-BE16-4491-9F4C-3409527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B2A2A-D182-482B-82ED-1C58623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42655-1E4E-4E35-96D1-E44313D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B0F28-D49A-4573-AC44-87685B1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33507-2922-4E0E-AD26-CE84498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3A195-4F59-4E06-A981-E969E7A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BE84E-3760-448E-A897-BDE4013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9402B-BBBB-43C7-9732-3A4AEBEE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CAB40-32B0-43E3-9BCD-AF9B2DB3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1CF63-A8AA-44CE-AE2B-9E280C66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11E-BA43-4F0C-B342-C6ED0579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434FA-E2F2-4990-A871-81B8FAA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D9B84-A9D0-463E-871C-B3803816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7FD93-66EF-4504-BBD4-B307F04C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A77E6-4AB1-4EF0-9DD0-C29C707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FF081-B4B6-4E7A-B4F2-A6E2D2F4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DE6E6-DD94-4C3B-A056-AFD18326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5CAB5-2407-42BE-839C-DBCA58C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6B1D0-DD77-449B-B03F-CE426C9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7DA89-1A17-4CDD-81AB-8F3A131C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90B6C-AF81-43B7-8E14-C75308E3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802-0147-4FE0-9E02-D8039F8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072A7-5297-4A59-860F-631E114B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34469-1D07-4702-B936-24EAA51D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5A616-6CBA-456C-A238-DA578F1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92152-E8E6-4C67-9662-49B60F5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665EDE-FE18-477C-A82E-7B3592CC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15AFD-B26D-4543-844E-DBE339C1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10C53-B86A-4125-A2A8-063ECE2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089DB-E826-4CE3-8759-81B1CDD2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2F939-2643-455E-BAF7-4CDC75F6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3F44F-035D-4FE6-9D27-DFB996E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27FC-D597-48AE-AE6D-4EB7C28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43CD0-B5B9-4C48-B8ED-9344DC0B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FBBFC-CA0D-4256-93FC-EFD7BAC6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455F3-4977-496F-B9FE-72059072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E8B4DF-BA12-42F3-B483-C742430D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C4EB7B-C2A7-4814-ABA5-878C4A3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1C0EE8-4B60-4720-99B2-7DFCBE3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6821CF-8BF5-45C5-9D03-55D68D8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B189C9-FCE9-40FA-80FD-546C6D14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FE26F9-1A19-4D53-977E-7CF22B3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AA2575-FF94-4DB4-95E0-63C3645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279-9E6D-4AB4-B565-77197874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2E23-C0AB-4C2A-AEA8-B286AC6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CC974C-9FE9-4289-A5C9-8CB166E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84AF46-5EDC-4936-BB82-9D70C6C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3E49F1-B74C-41E0-9B66-8EE4B12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B17E8F-A036-4FFD-9EC2-2630DC5E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6F04E7-AE23-4670-947A-CD8A1A7D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DE118-BB17-4A81-B7AE-170D0948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1AA86-CE54-476F-861A-42026AFE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1A476-F77C-4723-97D2-CE4D5FC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ED8DA-A0F4-4E1A-A5CF-A7B8EB79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E23F7-9D62-4BD0-BF73-C930A19B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8C7D-8DD7-44EB-9A7B-F76FBC01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FB6E6-D0D8-40FA-B924-11EAB875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A1D73-E71C-4B5A-A68B-9B18FCB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2271B-E7E3-4BA1-83A3-4E0F9B8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35CD4-19A6-4031-B295-736A8B1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DABC7-0C52-4804-88F4-AA1244B4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13168-EEDB-4B30-8E02-1654443A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74B0D-94F2-4DCF-AA28-AEE99ACD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40784-D818-4FBE-B1CE-4E7B721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48921-B2E8-4E35-9A5C-578B3F3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0B8AC-6BBA-4A59-A0F6-42F4523E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81D-FA6B-4EA9-9A60-CEF2996E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FC79E-0BA5-431A-8A50-B6E8CD6C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9AC11-C17C-4605-AC7F-4C3F4F7C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E0EC1-561F-483E-B73A-C45FB78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79BDB-40D8-41E4-90FF-C672507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0601D-8132-4714-8E85-663D98D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5D918-7D7B-429F-8127-4B84162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D84AA-BE96-4A1C-9E31-335D6F99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F270C-2A59-484B-86B3-53983975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C662C-3DBB-4CCE-AB7E-42DA6A05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77E17-8572-40AE-875B-9DDF4708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721E-BCDB-4329-96B6-77064E33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35E30-699F-4D12-BDC9-45F5052E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39DB0-E1F0-42D0-8FE6-F09D34E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1569D-4769-4746-B993-8AB5AE5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6A5BB-16DA-4808-891A-9001A814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A59C5-3EC2-4678-B982-E7A0C9F1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0B6FE-A05A-47C1-BB94-7A445E8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5265D-0269-4450-AC66-DA68914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0E781-1833-45D8-9FA0-683472B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6A4EE-7586-437D-A963-DEC19A13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1A708-9D16-41C9-9DE1-13BFBEFD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D93A-4BC1-45A8-AA66-6D79FB17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2B328-8DEE-4CA1-9C1C-638888F9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F2916-03A3-40F6-B514-4799B393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BC029-9B9C-4427-BA41-0701C92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7B6E9-FD20-4ED5-8A63-7D9A2051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BC123-7212-446B-9B28-FFA2362A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A629C-7728-464C-8C06-6A88CB2B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E4E10-69F2-417F-B461-051F9D33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4FE5D-FD53-49E6-A693-54CB8BD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D93191-03BB-4799-8CDA-18348C1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79B20-8063-48B0-991B-5B830EED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F8A2-4321-4900-8C1C-3E703F35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6F2B3-F34E-49BF-BB6D-7DFAEB1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8222D-7A49-4367-9773-E92A90AB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95734-63F7-46F0-88B7-F9CEDB3B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5FF6-F14C-4A68-86A7-3DF61F1C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1769-AF77-4827-A854-A1998936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532D-62C4-400B-93CB-55A81647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ACAA-B1D3-4D48-BD9D-963582CA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22C-EAEA-4AA8-AF53-5005249A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B48E-3F90-45C1-9116-B71B0185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3D19-700D-4AC8-9CEC-CAFCF86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0DD3-F400-4976-A58B-EDC392C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3516-EA5C-4225-9966-B5575CE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1F7F-8159-4D86-9891-0306096E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B692-2F16-4436-9EEF-E9A101DC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6C76-5A66-4E25-8A12-A4FFBBFE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1B164-D29D-4FAC-B964-D0FD4252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88287-BC85-4B62-8D5B-02BEBD8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150E9-72BA-445D-A7C8-1B010C3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76E-F2A4-4A2C-A78F-55A2862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470F0-F12B-4CE2-8339-9D342C20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A3DFD-5832-4146-8FCE-A8FCA46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70759-A791-4264-8E71-55EB89B0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51087-0F65-4647-AE1A-4598B15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16392-EA8A-466E-BFFC-ADCF84E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6939D-7387-4043-9859-EB03AAE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128ED-786F-4E61-8342-D033D9E3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A023C-6C34-4446-922A-099EEDC9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CE58F-FC72-4CFC-9366-F0A9714E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21BA-1C10-486E-9295-47C8D753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E58-28C8-4F4F-A095-FC8DB29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6A5EC-E0A6-4CE5-BD47-846DF48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E03A-85D7-4EB8-9404-96CE8E04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373F-76AD-4125-8A71-C4E74AD5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D340-6953-4262-94D1-8FD9379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0197-33F0-4AED-AC15-9942A23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87AB-8AE7-4D5E-B950-1A56DA0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B6040-D855-4445-81E4-FDE4F43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E51C-3F58-4B2F-B673-D7D0363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38B3-8B2A-4405-B909-CD68B83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4E35-ECEA-4FFD-B6F7-CE7D9445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AF1-8743-401E-8966-0101EACD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B7FCB-8505-41CD-8A87-DF05EAC0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50C2-8FDD-42F2-A68B-CFB571BB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703C8-9470-4BFB-8482-A8E69C3A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9101-E7BE-4AB4-A752-6EA336B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4652-AEB8-4F19-8E9D-61BBBB4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716B-EB8E-48F8-BCDA-6335E93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C4EE4-512E-4F9B-A76F-D2EEE84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08D3F-7711-44BC-B7D3-B8CEC0F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F929-E55A-4BA6-B303-D42DF5E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0875-21A2-4094-B54B-B9ED373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78D-BB02-4D36-BEFE-984A9C7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354B-ECDF-4F40-ABBD-CA36263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85C4-53CB-4CF6-916E-00E4C558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9E94-84DE-4121-97AD-C2550BCA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7BC5-4198-4DBF-B5C4-2724B9EB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5B079-24E1-493E-B62D-93A0BC3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74C2-4D5E-4678-89AA-14C9961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A18C3-D232-4E24-89B7-A7A83B00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BDA9-37DA-46B3-8173-7FEB092F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6B5D0-0022-479B-8FC0-3AC5043D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113E0-F878-4D58-B1B0-7EE524C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35D-D092-4230-964A-19951B6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762D1-5A6B-45DC-8244-65EB637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E34F7-F041-463E-83AB-EFB63EE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195F-F262-42B9-8B50-9AB6BDC4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0E6F6-015E-46AA-8D4A-FB6FDD75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00C49-29D2-4DB5-B279-AC13ACE9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1394-174C-4CA8-9E14-3583CEB4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CF71-98CE-4C05-822A-CCDA63F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E12B4-9843-4684-8AEE-8F5854E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5698F-5991-4EAF-9609-9E62137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9D42-B4D4-4979-AAAC-09B7BEA5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86B-C87B-4A68-B0A3-B6B3318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D314-7C0B-45B1-8EF2-1968F978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9101-1479-4000-B589-30EE4B0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BA61-7FED-4A21-9AD7-63B37C7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2882-58C9-4ECC-B668-8F9AD3A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828F-B208-4860-A429-C14B48F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365B5-7841-4261-A4D4-8490245F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8DCF0-D28A-49F8-A26A-77139B1D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94FF1-BC22-44E5-BA4B-5D5D860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86409-CE98-4E4C-B777-8231CF6F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AE578-9511-4DEB-B6EA-C769EE27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562-F050-4825-93D4-4323577670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2A7-4536-426A-9DC4-BAC74EEEED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5C6C-78AB-41AA-869F-6D93F74FF4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530-83C8-44D3-9ED8-E253366AA8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5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E85D-1458-4425-98C9-2B9A77720A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3DC-98FC-4FB7-94B4-736A407706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E99-5321-44A7-877A-D14748C2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560F-7B1D-4298-A2C7-FF353BFC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66B2-DBD8-4EB2-BD6D-9FB67DC71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031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44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6BE-05EE-43EE-87FC-DB6692FC1D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87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E47D-909A-4ABA-B129-E28EC9B7C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51D-FA03-4628-BEC1-D8D262CA24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413D-FD1C-4399-8516-FD2F38DDA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04E6-68F6-4762-8773-F5AB2FCA7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056E-CE90-4EB4-B3E1-6E731EB719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D87D-E4E4-4977-8DAB-59CC30B0B1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B5F-94DA-41A1-898B-653BDA1C1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C48A-A4DC-4943-9459-17B4C315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1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213-AF1A-4172-9C3F-D716A2E467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6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6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7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071D-4AD1-441D-BE87-48C7FD3BF2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D42F-EC92-4BB7-B1AF-5B104B94F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Существовала ли бы Америка, Если бы ее не открыл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Попова Екатери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232 гр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оренное население Амер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3849840" y="2060640"/>
            <a:ext cx="4803480" cy="4062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>
            <a:off x="1332000" y="3068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ндейц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эскимос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леут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4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ких животных Северной Америки вы знает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625280" y="2513160"/>
            <a:ext cx="250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рж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американский олен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белый медвед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орлан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тюлен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Кто открыл Америку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2671560" cy="339696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5633280" y="3303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Христофор Колум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5000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В каком году была открыта Америка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1406520" y="2465280"/>
            <a:ext cx="2619360" cy="259884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4140360" y="285264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 сентября 1492 года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5000"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В честь кого был назван материк Амер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3070440" cy="3743280"/>
          </a:xfrm>
          <a:prstGeom prst="rect">
            <a:avLst/>
          </a:prstGeom>
          <a:ln w="0">
            <a:noFill/>
          </a:ln>
        </p:spPr>
      </p:pic>
      <p:sp>
        <p:nvSpPr>
          <p:cNvPr id="1269" name=""/>
          <p:cNvSpPr/>
          <p:nvPr/>
        </p:nvSpPr>
        <p:spPr>
          <a:xfrm>
            <a:off x="5056200" y="3016080"/>
            <a:ext cx="34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мериго Веспучч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4000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Сколько путешествий совершил Христофор Колумб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321080" cy="3168720"/>
          </a:xfrm>
          <a:prstGeom prst="rect">
            <a:avLst/>
          </a:prstGeom>
          <a:ln w="0">
            <a:noFill/>
          </a:ln>
        </p:spPr>
      </p:pic>
      <p:sp>
        <p:nvSpPr>
          <p:cNvPr id="1272" name=""/>
          <p:cNvSpPr/>
          <p:nvPr/>
        </p:nvSpPr>
        <p:spPr>
          <a:xfrm>
            <a:off x="808200" y="23684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3960" y="1844640"/>
            <a:ext cx="632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сего Колумб совершил 4 путешествия к Америке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ервое путешествие (3 августа 1492 — 15 марта 1493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торое путешествие (25 сентября 1493 — 11 июня 1496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ретье путешествие (30 мая 1498 — 25 ноября 1500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Четвёртое путешествие (9 мая 1502 — ноябрь 1504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4000"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Первая экспеди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250920" y="1628640"/>
          <a:ext cx="3808440" cy="29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38084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"/>
          <p:cNvSpPr/>
          <p:nvPr/>
        </p:nvSpPr>
        <p:spPr>
          <a:xfrm>
            <a:off x="4212720" y="227664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ервая экспедиция состоялась в 1492 год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4095720" cy="28576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Вторая экспеди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070600" y="2257560"/>
            <a:ext cx="2847960" cy="156024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7240" y="53737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остоялась в15 сентября 1943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2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8" dur="2000" fill="hold"/>
                                        <p:tgtEl>
                                          <p:spTgt spid="1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Третья экспедиц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387360" y="2125800"/>
            <a:ext cx="4410000" cy="313524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5076720" y="2708280"/>
            <a:ext cx="35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ретью экспедицию Колумб совершил  30 мая 1498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Четвертая экспедиц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672000" cy="333864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4720320" y="206064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остоялась с 1502 по 1504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37080" cy="308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52:17Z</dcterms:created>
  <dc:creator>KATERINA</dc:creator>
  <dc:description/>
  <dc:language>en-US</dc:language>
  <cp:lastModifiedBy>07105</cp:lastModifiedBy>
  <dcterms:modified xsi:type="dcterms:W3CDTF">2009-10-23T06:01:27Z</dcterms:modified>
  <cp:revision>5</cp:revision>
  <dc:subject/>
  <dc:title>Существовала ли бы Америка, Если бы ее не открыли?</dc:title>
</cp:coreProperties>
</file>